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4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11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08D-0E6A-470D-A7BC-3EF84A2F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71E-9CFD-44FD-8A93-26B9AA1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2FB-2DD7-4F12-8796-1E3A3CC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ED7-758B-4E5A-82D2-6B51B4CE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899-8B12-42CC-8CEA-8F3F0FA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4AB-BA44-48C1-A949-653088AE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686-6B03-44AD-B9DE-A937FD9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87E-1F0E-4FFC-94BB-AF277B1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40F-F0F6-4F9C-BF65-C58C5AF2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37B-314E-475C-9908-3E5D45A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953-23D9-4519-B28C-97A9162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00A-A39D-466B-BBC3-9CC3AA3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2CF3-E286-4E5B-B8ED-221E767272C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33520"/>
            <a:ext cx="8229600" cy="642600"/>
          </a:xfrm>
          <a:prstGeom prst="rect">
            <a:avLst/>
          </a:prstGeom>
          <a:gradFill rotWithShape="0">
            <a:gsLst>
              <a:gs pos="0">
                <a:srgbClr val="000082">
                  <a:alpha val="89019"/>
                </a:srgbClr>
              </a:gs>
              <a:gs pos="100000">
                <a:srgbClr val="ff8200">
                  <a:alpha val="86274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– БОЖИЕТО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31920"/>
            <a:ext cx="4284720" cy="61268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г…  при разни частични съобщения и по много начини е говорил в старо време на бащите ни чрез пророците...” </a:t>
            </a:r>
            <a:r>
              <a:rPr b="1" lang="en-US" sz="44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Евреи 1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571840" y="2971800"/>
            <a:ext cx="400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ЩЕНОТО ПИСА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574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2280" y="50292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МАСОРЕТИТЕ ПРЕПИСВАХА 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 ПЕДАНТИЧНА ТОЧНОСТ ПИСАНИЕТО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095480" y="4876920"/>
            <a:ext cx="695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броявали са всеки ред и букв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ято са преписвал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728640"/>
            <a:ext cx="7200720" cy="5400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61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981080" y="571500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 Cyr"/>
              </a:rPr>
              <a:t>Мъртво мо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 Cyr"/>
              <a:ea typeface="Times New Roman Cyr"/>
            </a:endParaRPr>
          </a:p>
        </p:txBody>
      </p:sp>
    </p:spTree>
  </p:cSld>
  <p:transition spd="slow">
    <p:wipe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104840" y="2819520"/>
            <a:ext cx="67438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КО СРАВНИМ СЪВРЕМЕННА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ИБИ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ЪС СВИТЪЦ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А ПРОРОЦИТЕ НЯМА ДА ОТК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РАЗЛИКА ВЪВ ВЕСТИТЕ, КОИТО НОС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checker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-90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74320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ътрешната си х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303200" y="457200"/>
            <a:ext cx="6537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Как искаме да ни се открие Бог 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95280"/>
            <a:ext cx="60958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, да би раздрал Ти небето, да би слязъл, да биха се стопили планините от присъствието Ти, както когато огън гори храстите и огън прави водата да клокочи, за да стане името Ти познато...”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сая 64:1,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ърсете в книгата Господна та прочетете. Никое от тия неща не ще липсва, нито ще бъде без другарката си. Защото казва Господ: “Моите уста заповядаха това”. И самият Негов Дух ги събра.”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ая 34: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19000" y="5600880"/>
            <a:ext cx="344808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ария завет - 39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24360" y="5524560"/>
            <a:ext cx="3267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овия завет - 27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-90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0574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74320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ътрешната си х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353520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торическата си достове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27480" y="1469880"/>
            <a:ext cx="3981240" cy="303804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звам в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 ако тия млъкна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 камън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ще извикат.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</a:t>
            </a:r>
            <a:r>
              <a:rPr b="1" lang="bg-BG" sz="32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Лука 19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38080" y="5791320"/>
            <a:ext cx="7315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 Cyr"/>
              </a:rPr>
              <a:t>Селище на хе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 Cyr"/>
              <a:ea typeface="Times New Roman Cyr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80880"/>
            <a:ext cx="8001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ЧЕНИТЕ ДЪЛГО СПОРЕХ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ДАЛИ ИЗОБЩО ТАКЪ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АРОД Е СЪЩЕСТВУВ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814400" y="5981760"/>
            <a:ext cx="5515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8100000"/>
                </a:gradFill>
                <a:latin typeface="Arial Black"/>
              </a:rPr>
              <a:t>ЦИЛИНДЪРА НА К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-90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350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ътрешната си х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42900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торическата си достове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19112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актологическата си преци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14480" y="6134040"/>
            <a:ext cx="556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КЛИНОПИС НА ПОТОП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61960" y="380880"/>
            <a:ext cx="78962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Бог е избрал най-съвършенния начин за откриване: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ИСАНОТО СЛОВО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лово му каза: Излез та застани на планината пред Господа. И, ето, Господ минаваше и </a:t>
            </a:r>
            <a:r>
              <a:rPr b="1" lang="bg-BG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олям силен вятър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пеше бърдата и сломяваше скалите пред Господа, но Господ не беше във вятъра. А подир вятъра </a:t>
            </a:r>
            <a:r>
              <a:rPr b="1" lang="bg-BG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еметръс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но Господ не беше в земетръса. И подир земетръса </a:t>
            </a:r>
            <a:r>
              <a:rPr b="1" lang="bg-BG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гън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но Господ не беше в огъня. А подир огъня </a:t>
            </a:r>
            <a:r>
              <a:rPr b="1" lang="bg-BG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их и нежен глас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”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Царе 19:11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4987800"/>
            <a:ext cx="9144000" cy="17442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й гради сферите Си на небето и основава свода Си на земята..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Амос 9 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00120" y="5562720"/>
            <a:ext cx="794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Онзи, който стои над кръга на земята..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ая 40 : 22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-76320"/>
            <a:ext cx="9144000" cy="1008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ира севера върху празния простор; окача земята на нищо...”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Йов 26 : 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-90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43828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ътрешната си х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15432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торическата си достове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88620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актологическата си преци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4648320"/>
            <a:ext cx="8001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връхестествената си устойч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-76320"/>
            <a:ext cx="7619760" cy="10163160"/>
          </a:xfrm>
          <a:prstGeom prst="rect">
            <a:avLst/>
          </a:prstGeom>
          <a:ln w="57240">
            <a:solidFill>
              <a:srgbClr val="6666ff"/>
            </a:solidFill>
            <a:miter/>
          </a:ln>
        </p:spPr>
      </p:pic>
    </p:spTree>
  </p:cSld>
  <p:transition spd="med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-90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43828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ътрешната си х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320040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торическата си достове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91644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логическата си преци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648320"/>
            <a:ext cx="8001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връхестествената си устойч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33412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городяващото си вли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333360"/>
            <a:ext cx="8915400" cy="28789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 ли етиопянин да промени кожата си или леопард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ъстротите си? Тогава можете да правите добро вие, които сте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 научили да правите зло.”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Еремия 13:2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800280"/>
            <a:ext cx="7058160" cy="529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00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1280" y="5805360"/>
            <a:ext cx="8964720" cy="94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ъй като се възродихте не от тленно семе, а от нетленно, чрез Божието слово, което живее и трае до века”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Петрово 1: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-9036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блията заслужава доверието ни порад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кстуалната си автент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51460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ътрешната си х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23064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торическата си достове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91644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актологическата си преци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602240"/>
            <a:ext cx="800100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връхестествената си устойч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5288040"/>
            <a:ext cx="792504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лагородяващото си вли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604980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никалните си проро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мнете предишните неща от древността, защото Аз съм Бог и няма подобен на Мене, Който от началото изявявам края и от древните времена нестаналите още неща; и казвам: Намерението Ми ще устои и ще извърша всичко, що Ми е угодно.”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ая 46:9,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zoom dir="ou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301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68360" y="609480"/>
            <a:ext cx="8280360" cy="20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АСЛУЖАВА ЛИ БИБЛИЯТА 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НАШЕТО ДОВЕРИЕ ?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826920"/>
            <a:ext cx="7632720" cy="520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993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кайте и ще ви се даде, търсете и ще намерите, хлопайте и ще ви се отвори; защото всеки, който иска, получава; който търси, намира; и на този, който хлопа, ще се отвори.”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й 7:7,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7373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вети ги чрез истината; Твоето слово е истина.”                      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Йоан 17: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6939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ъй, всеки който чуе тия Мои думи и ги изпълнява, ще се оприличи на разумен човек, който е построил къщата си на канара; и заваля дъждът, придойдоха реките, духнаха ветровете, и устремиха се върху тая къща; но тя не падна, защото бе основана на канара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секи, който чуе тези Мои думи и не ги изпълнява, ще се оприличи на неразумен човек, който построи къщата си на пясък; и заваля дъждът, при-дойдоха реките и духнаха ветро-вете, и устремиха се върху тая къща; и тя падна, и падането й бе голямо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й 7:24-2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4514760"/>
            <a:ext cx="9144000" cy="22269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е непрестанно благодарим на Бога загдето, като приехте чрез нас словото на Божието послание, приехте го не като човешко слово, а като Божие слово, каквото е наистина, което и действува между вас, вярващите.”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Солунци 2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6830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0" lang="bg-BG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яните бяха по-благород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солунците, защото приех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нието   без   всякакъ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разсъдък  и   вс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 изследваха писани</a:t>
            </a:r>
            <a:r>
              <a:rPr b="0" lang="bg-BG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та да видят д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ва  е  вярно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4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Деяния 17:11</a:t>
            </a:r>
            <a:r>
              <a:rPr b="0" lang="en-US" sz="4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04920" y="30492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Твоето слово е светилник на нозете ми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виделина на пътеката ми."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салом 119 : 105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95280" y="457200"/>
            <a:ext cx="7467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Заслужава ли Библия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47920" y="3200400"/>
            <a:ext cx="7624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Times New Roman"/>
              </a:rPr>
              <a:t>нашето довери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44032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ичкото писание е боговдъхновено и полезно за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ука, за изобличение,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поправление, за наставление                       в правдата.”                  </a:t>
            </a:r>
            <a:r>
              <a:rPr b="1" lang="bg-BG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Тим</a:t>
            </a:r>
            <a:r>
              <a:rPr b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й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84464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ога не е идвало проро-чество от човешка воля, но светите човеци са говорили от Бога, движими от Свeтия Дух.”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000" y="566640"/>
            <a:ext cx="40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2</a:t>
            </a:r>
            <a:r>
              <a:rPr b="1" lang="bg-BG" sz="40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Петрово 1: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2920" y="5157720"/>
            <a:ext cx="8893080" cy="16786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stretch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овението от Исуса Христа, което Му даде Бог, за да покаже на слугите Си онова, което има да стане скоро; а Христос прати та го яви чрез ангела Си на Своя слуга Иоан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Откровение  1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8:08:24Z</dcterms:created>
  <dc:creator>3fon</dc:creator>
  <dc:description/>
  <dc:language>en-US</dc:language>
  <cp:lastModifiedBy>TrifonTrifonow</cp:lastModifiedBy>
  <dcterms:modified xsi:type="dcterms:W3CDTF">2005-09-16T09:55:01Z</dcterms:modified>
  <cp:revision>51</cp:revision>
  <dc:subject/>
  <dc:title>Slide 1</dc:title>
</cp:coreProperties>
</file>